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334-9067-4B4B-ABD5-503A82C1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EA1-7DF2-49DA-9942-63F0A66A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20D-302A-4C06-BC53-B3A3D45F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C41-542C-4E7F-B395-ADA599E6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6EA6-8C3A-4F8E-87B9-CBD9D4D2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4992-AFBD-459E-BBF7-217E9266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6B3C-A0B9-4917-9CBD-AAA693F6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7D82-75E6-4F63-BFD0-D9B3D252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19C9-260C-4FF6-BB29-B0B59517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C6CB-AD8A-43BE-B886-4C8E2D49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7F9E-3067-48BE-87D0-E1A2E74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E36-4BC0-4D0F-AE26-0CF0A1C6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471C-3E4F-4507-B30F-0D1EAF90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21B4-4A8A-44A8-A495-C0AA691B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69F0-527F-4B20-8C4B-AD4A76D8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4906-4625-4DC2-87AC-CD20AC40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1E86-1E9A-45CF-82DF-E484DBA0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6B7-76CF-4071-8D3A-CF1BBBF8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DD1-94EB-4ADF-92B0-5D64E29F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B63-D303-4697-8D06-8FCA41CB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130-7C67-41FE-B89C-683F4FE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729-A276-45AE-A5CD-8B5AC3F3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54F-4B1A-43BF-BB33-D2026908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5C2-BF09-4660-856D-F4DDC068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693-32D0-4CC8-BD3A-39F5C3390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6F58-5A8C-418A-B569-021EA9F40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870280"/>
            <a:ext cx="62532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 In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orking Defini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finition: Institution through which the state maintains social order, provides public services, and enforces decisions that are binding on all people living within the st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 minute: Write a working definition that you can use and rememb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3 minutes: Share with a partner and discuss what you liked and didn’t lik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 minute: Making any desired revisions to your working defin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finition: Effort to control or influence the conduct and policies of government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 minute: Write a working definition that you can use and rememb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3 minutes: Share with a partner and discuss what you liked and didn’t lik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 minute: Making any desired revisions to your working defin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finition: Action the government chooses to take or not tak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 minute: Write a working definition that you can use and rememb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 minutes: Share with a partner and discuss what you liked and didn’t lik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 minute: Making any desired revisions to your working defini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7:03:26Z</dcterms:created>
  <dc:creator>L-Net</dc:creator>
  <dc:description/>
  <dc:language>en-US</dc:language>
  <cp:lastModifiedBy>L-Net</cp:lastModifiedBy>
  <dcterms:modified xsi:type="dcterms:W3CDTF">2011-02-08T18:39:33Z</dcterms:modified>
  <cp:revision>5</cp:revision>
  <dc:subject/>
  <dc:title>Government Intro</dc:title>
</cp:coreProperties>
</file>